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845-9AEB-4A59-BCBE-26F77CBE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6E4-B21A-442E-97D7-5EFBB1F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29D-C619-4800-975D-A3E8F51E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67B-40B6-4307-AFCB-D0D61A4E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FC8-81D7-4D1B-9AD3-6E225F3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86A-0BA3-4C16-A8F1-A5D7E181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B2C-59BE-4274-9A58-097BBF0D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3DB-E028-4792-B98C-2FEBE6D7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D08-04A8-4A4C-9468-6CF07F6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8FF-4B78-4FEA-A909-4869A8A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C26-7B74-49BF-B61A-200A5CF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D95-0DE6-4D27-9D64-F8F5127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B37F-BBE3-427C-AD9C-13A724D8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06668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y page 2 as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use Inser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te this slide after you’ve f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10008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22:33Z</dcterms:created>
  <dc:creator>harterp</dc:creator>
  <dc:description/>
  <dc:language>en-US</dc:language>
  <cp:lastModifiedBy>harterp</cp:lastModifiedBy>
  <dcterms:modified xsi:type="dcterms:W3CDTF">2008-01-08T16:31:59Z</dcterms:modified>
  <cp:revision>4</cp:revision>
  <dc:subject/>
  <dc:title>Slide 1</dc:title>
</cp:coreProperties>
</file>